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6DD2E-9227-43F4-AE59-A0511B76CD4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953453-4CA3-4DB5-AFC3-D5548B3D1B68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C5F-D7B0-43D9-9F9A-84A7B5A8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D41-F258-4FCE-AC24-E7B030C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E29-382E-4E72-A38A-6352A768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45B-F16B-4685-9603-A2C50192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AC8-EEB7-4D47-BF8B-12F47315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3F5-729E-41ED-B4F1-2F6C3E57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2CE9-485F-448C-9326-B653A2F9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C7C-6065-45BF-90C8-F52D9D7C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4939-C75B-46EC-B7EE-6F0F597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CEF2-F872-4424-BD75-8E3225A6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9B06-110F-4D80-9EDE-AD4EB184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6C0-D466-49F0-96CC-73EC759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89B3-A8AE-47AE-A2E3-A1A9803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9A36-66C0-4595-A3AD-3632458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65A6-D14A-4D20-8D8B-8CD8319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848-8378-4E5E-9E58-38141F1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1AA5-0279-49CB-94C9-C39DCF0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ACD-2BF6-4CA4-9CB5-F817E14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F57-DC67-48CF-940A-2EF7064B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040-CACD-47F7-8ACA-EC2209C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09F-E0CB-4FBB-8EDC-25D9387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0C-31B9-45E1-B8C2-F0DF6E9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42F-96C5-4E76-99D1-BB166176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208-7DB7-4AA5-8AC2-01694C1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234-A2E2-450B-86DD-B2FD07B92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41DB-B50B-48F9-8341-67B1280D0FE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binar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68360" y="2781360"/>
            <a:ext cx="67312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Represent numbers in ceil[log m] bits, where m=|B|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mic Sans MS"/>
              </a:rPr>
              <a:t>Set z = ceil[log n] and  where n = #1 then it can be prov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≅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=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5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6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44600" y="6129360"/>
            <a:ext cx="786744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s of i-th 1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11-03T09:50:35Z</dcterms:modified>
  <cp:revision>1233</cp:revision>
  <dc:subject/>
  <dc:title>Web Algorithmics</dc:title>
</cp:coreProperties>
</file>